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7FA-02D9-4B64-AD38-6F8507CC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051-3263-4A0A-8E14-AC8AA158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22A-2ECD-4E15-B1DB-48054627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866-44D2-40C1-91A9-6A691B7A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073-72FC-4E3C-A55D-F0FDBDE1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B54-4022-47B4-A3A0-1A33EAB7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915-38F0-4815-B214-2081EB91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247-F175-4C6B-8B3C-2222B504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722-AE8A-495D-B0BA-F4276848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1CD-A07F-49D5-A593-2AFFB99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E73-EE66-4A19-885C-DBC76A2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5C0-1A2F-4F4E-9EE4-B908722E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C1A-060A-4B4D-92FA-FBAB9C09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hrenheit 4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84872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0372" t="0" r="0" b="0"/>
          <a:stretch/>
        </p:blipFill>
        <p:spPr>
          <a:xfrm>
            <a:off x="685800" y="4343400"/>
            <a:ext cx="32958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2205000" cy="373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26072" t="16273" r="6912" b="15748"/>
          <a:stretch/>
        </p:blipFill>
        <p:spPr>
          <a:xfrm>
            <a:off x="4038480" y="40384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51720" y="914400"/>
            <a:ext cx="1803240" cy="31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17659" t="22222" r="0" b="0"/>
          <a:stretch/>
        </p:blipFill>
        <p:spPr>
          <a:xfrm>
            <a:off x="7467480" y="36576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rcRect l="26265" t="15739" r="29299" b="0"/>
          <a:stretch/>
        </p:blipFill>
        <p:spPr>
          <a:xfrm>
            <a:off x="5410080" y="2209680"/>
            <a:ext cx="121932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>
            <a:lum bright="-24000"/>
          </a:blip>
          <a:stretch/>
        </p:blipFill>
        <p:spPr>
          <a:xfrm>
            <a:off x="6019920" y="40384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133200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75080" y="12952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5960" y="1484280"/>
            <a:ext cx="35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 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15:28Z</dcterms:created>
  <dc:creator>Cecil Smith</dc:creator>
  <dc:description/>
  <dc:language>en-US</dc:language>
  <cp:lastModifiedBy>Cecil Smith</cp:lastModifiedBy>
  <dcterms:modified xsi:type="dcterms:W3CDTF">2008-05-01T20:34:32Z</dcterms:modified>
  <cp:revision>3</cp:revision>
  <dc:subject/>
  <dc:title>Slide 1</dc:title>
</cp:coreProperties>
</file>